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6E0-F1A2-49D1-AEFF-FB199CCA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C7A-AF45-4BD6-A65F-99F6EF5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DDA-F9B5-49AF-BF43-004E238F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C52-961D-4DEA-8227-1AE27B37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9E3-561C-4E41-9C6C-938F0609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BA-54C8-4C58-AA02-93E65164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85F-F5BA-4974-B9E2-E3ED589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B0-1954-48DC-AF9E-4CE1F36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C5E-4FBA-4CBA-984E-93A94D9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14F-A040-4A4A-96D4-3A5F5C5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D3F-AA6C-49DC-A117-3E308FD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56B-C1DF-4819-B398-02A8569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15F2-769E-4F5C-9080-97284FD4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47:01Z</dcterms:created>
  <dc:creator>Patrick J. Mooney</dc:creator>
  <dc:description/>
  <dc:language>en-US</dc:language>
  <cp:lastModifiedBy>Patrick J. Mooney</cp:lastModifiedBy>
  <dcterms:modified xsi:type="dcterms:W3CDTF">2010-02-17T19:47:18Z</dcterms:modified>
  <cp:revision>1</cp:revision>
  <dc:subject/>
  <dc:title>Slide 1</dc:title>
</cp:coreProperties>
</file>